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E8DB-B439-4FB5-9065-09863487D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FA87-4805-473E-81AC-74B8DC95B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48AE-B811-45A8-AD84-5C3C3353A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73C0-0198-4615-9643-21D562E50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9BB1-B168-4FA0-B8F9-CA607215F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2F99-27C1-4BB7-B027-0CA1FB8F0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11BD-73DA-45DD-BB61-7E394D9D0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BE14-6847-4A4B-BFFF-10A7D0F60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0E637-5C46-4D34-9DBC-3D4AB08F0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84BA-70AE-4D3A-8DB4-2958FC7A8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ACFE-95A0-45A1-843E-D1D9DA70B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1EFE-C853-4A59-B787-962215C66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D6C83-9684-4864-B345-F9C877AB0E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50760"/>
            <a:ext cx="9144000" cy="690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3T13:30:12Z</dcterms:created>
  <dc:creator>INVES-S6600A</dc:creator>
  <dc:description/>
  <dc:language>en-US</dc:language>
  <cp:lastModifiedBy>INVES-S6600A</cp:lastModifiedBy>
  <dcterms:modified xsi:type="dcterms:W3CDTF">2010-11-23T13:30:51Z</dcterms:modified>
  <cp:revision>1</cp:revision>
  <dc:subject/>
  <dc:title>Diapositiva 1</dc:title>
</cp:coreProperties>
</file>